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58C1B-BC89-4E59-A205-6E2328575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9B87C-A77C-4621-8BB6-A3C727FC1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4BEDC-CA18-48C6-9100-CAF032B44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B6C4C-5BA2-498A-8DE3-1C5DE5E9E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3D38A-1432-4938-A324-42C14BC00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CCF63-37DE-47EB-94EE-AFA46C3FF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7CA96-CDE8-4213-9ECB-982653B7B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8C0A2-39BF-45F2-8C05-C6272E97A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5988F-B687-47DD-BCE6-27BED423B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36A6C-9978-4B36-9113-672EDD6BB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99C4B-8251-42F4-9C9D-B88E67AB4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56B7A-F444-4DEA-8CC4-9DD7161CD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3921-2B2C-482C-AED1-2E245FB46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26920" y="189000"/>
            <a:ext cx="8066160" cy="1682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RROTOA,ODOLA E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ALKOAK.HERIOTZATIK</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H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826920" y="260280"/>
            <a:ext cx="727416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ZEIN IZAN ZEN GERRARE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RRAZO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3" name=""/>
          <p:cNvSpPr/>
          <p:nvPr/>
        </p:nvSpPr>
        <p:spPr>
          <a:xfrm>
            <a:off x="539640" y="3781800"/>
            <a:ext cx="835200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99cc00"/>
                </a:solidFill>
                <a:latin typeface="Showcard Gothic"/>
              </a:rPr>
              <a:t>Espainiako eskuindarrek ez zutela onartu ezker alderdien Fronte Popularrak1936ko otsailaren 16ko hauteskunde orokorren bidez Espainiako agintea eskuratu izana. Uztailaren 17an eta18an Espainiako armadaren zati handi batek estatu kolpea jo zuen Errepublikaren gober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2:58:41Z</dcterms:created>
  <dc:creator>ik015111zz</dc:creator>
  <dc:description/>
  <dc:language>en-US</dc:language>
  <cp:lastModifiedBy>ik015111zz</cp:lastModifiedBy>
  <dcterms:modified xsi:type="dcterms:W3CDTF">2012-05-10T13:20:02Z</dcterms:modified>
  <cp:revision>2</cp:revision>
  <dc:subject/>
  <dc:title>Diapositiva 1</dc:title>
</cp:coreProperties>
</file>